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6FD-DE34-409B-A241-769792B3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EFB-2F81-4911-AA5C-5C2CD85D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894-9648-4F35-AFFF-5A282A0A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45C-C3EA-40FD-BCA9-1E89C79E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E51-C8C1-4824-AAA6-1039C66C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004-7A47-4F3E-9167-F273FBD6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DBE-F954-414F-98F6-161FDEB4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2DD-7258-42D8-A36C-F74FF95A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9D5-C9BC-4276-B8FC-C70D8D5C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66F-657A-4A38-B3CA-B63F374D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96B-DB97-4AB8-A8DA-D2286934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700-E43E-4D27-A330-01E5CCDF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EF50-E8A7-4245-B9D0-4E8EBF60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eb.mit.edu/invent/iow/naismith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5253120"/>
            <a:ext cx="2666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0"/>
            <a:ext cx="1741320" cy="178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331040" y="0"/>
            <a:ext cx="1812960" cy="178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14600" y="838080"/>
            <a:ext cx="3886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sketball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84280" y="2430360"/>
            <a:ext cx="333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Naismith"/>
          <p:cNvPicPr/>
          <p:nvPr/>
        </p:nvPicPr>
        <p:blipFill>
          <a:blip r:embed="rId1"/>
          <a:srcRect l="0" t="0" r="0" b="4878"/>
          <a:stretch/>
        </p:blipFill>
        <p:spPr>
          <a:xfrm>
            <a:off x="5867280" y="0"/>
            <a:ext cx="327672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3808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ketball (Game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nuary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naismith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Naismith"/>
          <p:cNvPicPr/>
          <p:nvPr/>
        </p:nvPicPr>
        <p:blipFill>
          <a:blip r:embed="rId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190512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of the classes he instructed, Naismith was charged by the superintendent to come up with new games that could help bring recreational sports into the gymnas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 was first played with 2 peach baskets and a soccer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, basketball was called “Duck on a Rock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 was invented (officially) in194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timated 300 million people play the gam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 is less brutal today than it was when it was first pl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ames Nai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Naismith was born November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1861,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smith lived with his Grandmother because his parents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3 sib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was an outstanding ath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November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93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18Z</dcterms:created>
  <dc:creator>install</dc:creator>
  <dc:description/>
  <dc:language>en-US</dc:language>
  <cp:lastModifiedBy>install</cp:lastModifiedBy>
  <dcterms:modified xsi:type="dcterms:W3CDTF">2011-01-14T16:53:47Z</dcterms:modified>
  <cp:revision>7</cp:revision>
  <dc:subject/>
  <dc:title>Slide 1</dc:title>
</cp:coreProperties>
</file>